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E02-6412-4D99-9F30-91CA3926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858-9B87-4184-AF55-E143A0A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60EDB-864C-4175-85F2-582CB986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7405F-20B1-4F3A-9472-ECDF8C2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6C965-977F-451F-B30E-31BE63D4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A98D2-6A93-41B9-BB12-1BEB341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75A6E-09D5-4119-8D9F-5F22805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5B0A2-0894-46BC-84C5-14CF37A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83EB0-E5C7-479E-98B4-34E8531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6B473-9403-4F77-9D20-3E785540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B543E-60CA-4EE1-A684-AAC1A57F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22BD0-C3F8-4974-87ED-86CCB2D6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A73-E6FA-4487-943E-40B68CC8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010DA-9F21-4B04-BAA4-87D3F6B6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5CBA6-049E-4B48-A4F2-E524872A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D0428-BFF1-4BC7-949C-413B9EB1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9804A-AE76-474D-88CA-A22EF60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D586C-2FEA-436E-9B2E-5804566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3270C-0134-4917-A996-5D094BB2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3E842-64F9-41E6-B9AC-98B54C56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CD952-8CFF-4C44-AF4D-4F6458D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3F0E5-A1CF-4D8F-BE0C-4C84E321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2F24E-5DFB-497C-9759-C63D89A1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4C0-D36E-498D-A850-9D6CAF83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5F2D5-1152-4015-A6C0-7C00E0A2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5E8AC-B956-48BA-8877-CED0F4D6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A0882-1CC7-457C-8359-038561C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2D9FA-0B37-4F20-9021-029BBD8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AC5B6-39B2-49C8-9B50-1C6A91F6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5CE11-6997-4C84-AEDF-99997ED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EEBEE-699D-4E0B-AB39-CD58E0D0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0AFD-3EAC-4FA0-9929-7FAD81D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E84B1-F342-4FDA-B8E7-401790D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8F3B1-FAAC-4AA8-91B7-7AC089A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5E64-8C79-4BF3-A41E-60F05553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4B60D-A0E8-402F-B04F-18B6D6A2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E47D2-EDC9-4497-851C-72BF424D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8E6D0-84D4-42A7-A481-13D3FA1B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2DF1C-8FA3-4F3E-84E7-652D5325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02CE3-3AC6-4278-BCFE-6042CEC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6C64C-6B4F-45EF-AD1E-5E0BDC23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51FE8-4202-4988-AF14-8DF317E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3E655-1673-43EB-9A3B-7B465DB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0AB42-121D-48E8-A1F5-2C9A9C68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20AA3-68A8-4C02-84F4-0E6D887A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EEC5-02BF-4AAD-AB71-E74CFF08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5E2C7-936C-4141-B843-B0DF0BA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CDA03-0F14-4E95-AC8C-1DE97E1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79419-98FE-4C55-9D8A-0891AA1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CB579-462C-40DA-86C7-F1CF6E22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96085-B2A3-498C-84DF-EF64EA05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6313-8801-4667-B0CF-B2AFEBFF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2F69-871E-45D7-9C0E-981073B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5994-A62B-4909-B6A7-8426F83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74B8-DB90-4252-B0E1-27D5FE39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2323-5FB8-465B-872D-D5879B28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DA2-A456-40D6-BF95-8E4C2878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82A-C2E8-466C-98EF-CD4504B5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96C-2EA6-435A-A549-A1E1D35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5FEA-CE24-4D29-AFD4-D55DEE3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DA5C-2E7B-4CD2-B18A-32E50904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AC3F-1559-48F6-A1E4-E9949509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C520-DA4D-4D7B-A664-5B20EAB7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FA70-5B32-4085-A054-6D339FC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E3D0-E7A7-47CD-BAE7-4631E0DB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C5B9-422A-4147-8F6D-B1D0DAF0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E222-9569-4747-898B-3A3D70B6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5CA-63AE-4DAC-A93A-EA16CEDA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674F-3C26-437A-9E14-1A502F64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4A42-EA1F-452C-AE3A-A1E8B78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B3D7-9ADB-4DD9-803E-B41A832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281B-CFD4-4186-B420-2B309DB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8B47-66DB-44EF-9C6A-FC131DAD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2406-138D-4401-A754-F9A2602E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6A1B-3241-448A-8B5A-8D080DE5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0218-14E8-466A-9A2F-923DCE85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C243-049A-4D83-BDA0-BD907517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6E7F-48E7-4FFF-A8A1-F6F1406F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BA8-2E87-4499-9477-E1F15727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ABE7-0D10-45AF-9F68-ABC02D82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F4EB-4A9D-4178-AB94-6397237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D164-EBCD-4095-99EB-8251B06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62BC1-718D-4C85-8F8E-96B2A7E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D2EA-3DA1-4E38-96BE-8F4B1F7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BE0C-44AF-40C1-AE86-39E0B874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81F0F-F25B-4F2A-B100-A0BF51CC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138F-E33A-422A-B1F5-41F3A73E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2BEE-2D8D-4533-8E1B-310B2A82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F467-B8E9-4211-9389-C6D8E6BB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B15-BE69-4085-B94C-E482F3A2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901D9-7091-4658-9BC6-85EBDD7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5A850-C75A-4121-A4FB-E8A6F95B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DBD3-2266-4A79-A7EA-F9758E56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52D4-5962-4915-A0F2-998BDDA4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FFFA-A7AA-4D84-B303-2C8ECD32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55621-C8AA-4B5C-9E42-EFF4565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AB8F-7B92-4801-BE9B-6B033B92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0188-A1C1-4A4A-B982-B0C7745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087C-60EC-4FFF-8269-321192DC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D60B-CBF2-415B-913E-8F7BBD6D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0D1-4C33-4BEC-83C0-8C1E8A8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8DF6-D5F8-4985-B1D9-DFB057F3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47B1-ADD2-402B-9ED4-CDF4859C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113F-F31B-4A9D-8CE8-AB5D279E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3144-3408-4C3B-B831-1A78D957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B9C8-0D2B-4FFA-AB3C-88C6EE55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FFC2-41A4-411E-8270-54F9068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1924-2650-44F5-855C-44FE52E6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049F7-5CB4-4C72-BF7F-A0A477F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D6080-A8EB-4077-8B8F-12DDCF13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C6409-CD1B-479A-A045-F18E072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B3B-9153-435F-9CBD-C9CE90BD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11FA-9214-4DB1-8573-6D7CBE9C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5CA0-068B-4B81-AB8A-3BE8E211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BADFA-6006-422B-A635-000E9431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2473B-DEB4-4466-B4E4-AB145A8E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AFF9E-2B3A-44F1-847A-BE88D49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2D0A0-C13D-4B46-9D39-FC7D9BCD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5A002-FBB5-41DB-B02A-23EB86C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61477-CC70-4F2E-B3C5-64A5AD21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39DF-45F2-4E93-BF4B-EF408F9A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66B51-9B92-42B9-AB17-38E96E8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239-6A11-47D4-8AD9-A7B8511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F9E07-8EAB-42F6-969B-FC3C930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FF871-F5AF-4536-858F-C4B90F6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AFA0-4656-4DCD-A8AD-D2B417C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975A-2576-4C96-962D-FB3B59F0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66F09-3FCD-4AF9-AF8C-7A23CF22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DF89-9A87-4FD3-BE91-E3320ADA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7F788-5910-45E5-B0F3-910442A6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CB490-5DC1-44DC-BD06-0215147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034B4-B197-4438-862A-B32351AD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43ED-D6E2-4BB7-9715-58C4D3CB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A08-826A-41F5-AC41-0834DBA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1BCD5-D1AD-4E28-AF9F-ED35ADE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E7BD1-61E4-40C8-B40E-90340FB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EDCB3-571B-4C4D-9A56-E7EB5E8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4CB97-34A3-4F2C-85D8-6C31184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7D75-9850-491E-805A-9720F1F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C3F6-DB04-4453-91CA-C9D99138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6130-8B8B-4F9C-B46B-805A3794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36D8D-98A9-4192-8D6D-B07B7159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FF030-356A-422E-9F40-12462CE4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47359-B15F-4D05-A054-D6793623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A0E4-717C-4E79-B30E-D1A2997D8D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615C-3A6A-4B62-8574-33FCC8840C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EBD8-A38E-4F10-BF58-407637B927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E4EA-D01D-41DD-B30E-8799A49EDC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4374-8B69-4FA3-A593-B13839EBF9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6CEC-0D61-4A7B-8A5F-08EE0A16CD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E32A-977D-46D8-8B01-787DFF04AE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1F95-EE9E-4358-AA64-7392749D02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3BAD-2C20-4BF8-8DA8-E26E941262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88A-CA2C-4B14-80CA-71D524C2CA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775-50E4-43D9-AFBF-A6771F25B4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1119-BE03-47CE-949A-799B533D03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8 Strápených únavou úprimne vo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pených únav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e vol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tá súcit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Boh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iesni a úzkost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balzam Slo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ých, čo ho prijm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sníme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 má pre všetk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chcú byť šťast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íšiť vie úzk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o láske hl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raky sa rozply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ár úsmev zjas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, kto ve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Boh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 chlieb on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vodu živú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uchovnej posily odveký zdroj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ňom si znav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odpoči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mierni každý sto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ôľ,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ieb z neba ty si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ýtiť aj zástup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moc máš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ôvere dvíha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ázdne len dl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, čo treba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z lásky dá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14:30Z</dcterms:modified>
  <cp:revision>21</cp:revision>
  <dc:subject/>
  <dc:title>Je veľký náš Pán, on slávy je Kráľ Nech do všetkých strán  spev vrúcnych znie chvál.</dc:title>
</cp:coreProperties>
</file>